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D9F545-33AB-45D0-8AC8-19E960159C4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off device, save (co)processor regs, snapshot, restore regs, poweron device, write to sw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ig, alloc mem, read image, freeze process, free mem, suspend dev, poweroff dev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processor regs, realloc image to orig addr, restore regs, poweron dev, resume dev, free m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w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DB9-36DB-4B4E-A3DF-A0F7ADF5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2DE-2A0D-4662-A976-00F5A15B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C12-D106-4C18-87BE-510DA322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4A7-478D-48E9-96F4-F61C7559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B81-91A4-4E69-8312-01058B7A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364-4069-4C25-9BFF-855D0F5E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A3A-B677-436C-AB87-C6DC0453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BBA-E679-4F79-925E-E0A327A2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402-B28E-44C8-9140-414D559B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84F-A812-44E5-9735-C51EA4E8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8B4-EB7F-49C2-AB2E-0E3D0C49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066-90B0-4982-9E7F-A1B7918B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CE96-990D-4510-8E09-3A26235E5B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ement of 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rtup time using Software Susp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ct Update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3192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y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roki KAMIN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2A6-9BC0-48A4-AA13-E5599F24114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boot (1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operate kernel side suspend/resu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boot loader side init set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napshot image created by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t loader do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up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snapshot image to original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and do setups for 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 to resume entry poi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t normal entry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14A-6B85-401B-B918-2D6F8AEF9A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boot (2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04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160" y="1916280"/>
            <a:ext cx="13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1773360"/>
            <a:ext cx="1081080" cy="10080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3" y="0"/>
                </a:lnTo>
                <a:lnTo>
                  <a:pt x="21600" y="10800"/>
                </a:lnTo>
                <a:lnTo>
                  <a:pt x="172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24360" y="1773360"/>
            <a:ext cx="1295640" cy="1008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4" y="0"/>
                </a:lnTo>
                <a:lnTo>
                  <a:pt x="21600" y="10800"/>
                </a:lnTo>
                <a:lnTo>
                  <a:pt x="18344" y="21600"/>
                </a:lnTo>
                <a:lnTo>
                  <a:pt x="0" y="21600"/>
                </a:lnTo>
                <a:lnTo>
                  <a:pt x="3256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76544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7560" y="52293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716280"/>
            <a:ext cx="938160" cy="1008000"/>
          </a:xfrm>
          <a:custGeom>
            <a:avLst/>
            <a:gdLst>
              <a:gd name="textAreaLeft" fmla="*/ 0 w 938160"/>
              <a:gd name="textAreaRight" fmla="*/ 938520 w 938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6" y="0"/>
                </a:lnTo>
                <a:lnTo>
                  <a:pt x="21600" y="10800"/>
                </a:lnTo>
                <a:lnTo>
                  <a:pt x="16776" y="21600"/>
                </a:lnTo>
                <a:lnTo>
                  <a:pt x="0" y="21600"/>
                </a:lnTo>
                <a:lnTo>
                  <a:pt x="4824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1773360"/>
            <a:ext cx="2089080" cy="100800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47" y="0"/>
                </a:lnTo>
                <a:lnTo>
                  <a:pt x="21600" y="10800"/>
                </a:lnTo>
                <a:lnTo>
                  <a:pt x="19647" y="21600"/>
                </a:lnTo>
                <a:lnTo>
                  <a:pt x="0" y="21600"/>
                </a:lnTo>
                <a:lnTo>
                  <a:pt x="1953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" y="393372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371628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00" y="0"/>
                </a:lnTo>
                <a:lnTo>
                  <a:pt x="21600" y="10800"/>
                </a:lnTo>
                <a:lnTo>
                  <a:pt x="16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859280" y="278100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3716280"/>
            <a:ext cx="1729080" cy="100800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60" y="0"/>
                </a:lnTo>
                <a:lnTo>
                  <a:pt x="21600" y="10800"/>
                </a:lnTo>
                <a:lnTo>
                  <a:pt x="19160" y="21600"/>
                </a:lnTo>
                <a:lnTo>
                  <a:pt x="0" y="21600"/>
                </a:lnTo>
                <a:lnTo>
                  <a:pt x="244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279-93A1-4901-9F9E-C3B8ECF169C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boot (3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ed in u-boot boot lo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omm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ss &lt;image addr&gt; &lt;resume entry poi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snapshot image in flash to 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ation and set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up clock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up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up various MMIO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M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p to resume entry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8F4-1AAA-490E-B978-D181C7292A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[[demo of swsusp and snapshot boot]]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ED8-C27F-4BCB-A081-8F94A045B6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/power/swsusp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b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sourceforge.net/projects/u-boo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uspend2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704-F806-4EAB-A744-55CAFC5CB0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34360" y="308124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E93-AE2A-4BF1-9135-01C756E56F8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functionality in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swsusp for snapshot b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FF8-78FC-4ABB-AD05-CA8CFDEA38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startup time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using image of known system stat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ry to accomplish kernel, module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tartup time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a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using system image as a file, we can tra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development progress and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E4F-458B-4358-866C-EED082D15B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envirion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482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OSK 5912 starter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kernel 2.6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 swsusp support pat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veloped and posted to 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osk.jpg"/>
          <p:cNvPicPr/>
          <p:nvPr/>
        </p:nvPicPr>
        <p:blipFill>
          <a:blip r:embed="rId2"/>
          <a:stretch/>
        </p:blipFill>
        <p:spPr>
          <a:xfrm>
            <a:off x="6012000" y="333360"/>
            <a:ext cx="2693880" cy="202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88000" y="2505240"/>
            <a:ext cx="396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65E-ED90-4A3E-8188-4E81492243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(1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states supported by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power savings, low latency to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 Cpu retains power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I 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 to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power savings, system in low-pow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in self refresh mod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I 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st power savings, similar to suspend to ra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 contents written to disk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I 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138-DCA2-4609-B62F-6F8579D5AB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(2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is suspend to dis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r suspend to swap, `sw` stands for sw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image to nor flash instead of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esume, read from nor flash instead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B9F-02C2-423F-BC0C-2D3C645AE6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(3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low of swsusp (suspend ph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ze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unnecess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napshot image (in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me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snapshot image to sw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down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85040" y="5780160"/>
            <a:ext cx="51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swsusp needs half of tot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75E-65F7-49EB-ADCA-7933C4272F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(4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low of swsusp (resu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me begin at `late_initcall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mage from swap to m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z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ore snapshot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me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w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15F-3048-46E2-A6A5-7B2B5D8A41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(5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resume takes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susp procedure is kicked at late_init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before init process st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ing I/O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to mem (allocated m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 to mem (allocated mem to orig mem add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t device state tran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gets setup, suspend, and resu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3D5-71F2-46A8-A420-B5734BA1F8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kaminaga</cp:lastModifiedBy>
  <dcterms:modified xsi:type="dcterms:W3CDTF">2006-03-27T12:29:46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